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A07-BB41-4411-BB85-3B8D7FB9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15B-A16B-4DBE-B193-0B3B05F0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D34-91FF-431E-A9E6-7FB086CC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CF1-A965-42A4-AD3D-79CC043F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A1E-02EE-4B6D-AE9D-3D0E4424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C36-488A-4E2C-8932-25602DB2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7B1-CFC1-40EE-9B08-57DFAA26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39B-CAA0-44BA-B7EA-8E74F7BA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49F-78BF-4F5D-8064-EB38C61F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9C7-B818-4985-8853-712FD30A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BB3-FAEF-424C-B732-87838CA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132-B603-48AC-BCA4-CE7CCF9A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9AB9-49E9-4C7D-90DF-1EA5C47F8AA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692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ILETTATU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0"/>
          <p:cNvPicPr/>
          <p:nvPr/>
        </p:nvPicPr>
        <p:blipFill>
          <a:blip r:embed="rId1"/>
          <a:stretch/>
        </p:blipFill>
        <p:spPr>
          <a:xfrm>
            <a:off x="0" y="59688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1"/>
          <p:cNvPicPr/>
          <p:nvPr/>
        </p:nvPicPr>
        <p:blipFill>
          <a:blip r:embed="rId1"/>
          <a:stretch/>
        </p:blipFill>
        <p:spPr>
          <a:xfrm>
            <a:off x="0" y="404640"/>
            <a:ext cx="921240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3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4"/>
          <p:cNvPicPr/>
          <p:nvPr/>
        </p:nvPicPr>
        <p:blipFill>
          <a:blip r:embed="rId1"/>
          <a:stretch/>
        </p:blipFill>
        <p:spPr>
          <a:xfrm>
            <a:off x="316080" y="0"/>
            <a:ext cx="88279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6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159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755640" y="549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O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7"/>
          <p:cNvPicPr/>
          <p:nvPr/>
        </p:nvPicPr>
        <p:blipFill>
          <a:blip r:embed="rId1"/>
          <a:stretch/>
        </p:blipFill>
        <p:spPr>
          <a:xfrm>
            <a:off x="609480" y="57240"/>
            <a:ext cx="79250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0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"/>
          <p:cNvPicPr/>
          <p:nvPr/>
        </p:nvPicPr>
        <p:blipFill>
          <a:blip r:embed="rId1"/>
          <a:stretch/>
        </p:blipFill>
        <p:spPr>
          <a:xfrm>
            <a:off x="2595600" y="0"/>
            <a:ext cx="65484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24000" y="98100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llegamento avviene attraverso fori passanti non filet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386064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llegamento avviene attraverso un foro passante non filettato ed un foro cieco file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9"/>
          <p:cNvPicPr/>
          <p:nvPr/>
        </p:nvPicPr>
        <p:blipFill>
          <a:blip r:embed="rId1"/>
          <a:stretch/>
        </p:blipFill>
        <p:spPr>
          <a:xfrm>
            <a:off x="0" y="588960"/>
            <a:ext cx="9144000" cy="6269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340000" y="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E RAPPRESENTARE VITI E D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"/>
          <p:cNvPicPr/>
          <p:nvPr/>
        </p:nvPicPr>
        <p:blipFill>
          <a:blip r:embed="rId1"/>
          <a:stretch/>
        </p:blipFill>
        <p:spPr>
          <a:xfrm>
            <a:off x="3825720" y="0"/>
            <a:ext cx="5318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95280" y="2781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appresentazione semplific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1"/>
          <p:cNvPicPr/>
          <p:nvPr/>
        </p:nvPicPr>
        <p:blipFill>
          <a:blip r:embed="rId1"/>
          <a:stretch/>
        </p:blipFill>
        <p:spPr>
          <a:xfrm>
            <a:off x="3309840" y="0"/>
            <a:ext cx="58341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611280" y="1484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zioni sempl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2"/>
          <p:cNvPicPr/>
          <p:nvPr/>
        </p:nvPicPr>
        <p:blipFill>
          <a:blip r:embed="rId1"/>
          <a:stretch/>
        </p:blipFill>
        <p:spPr>
          <a:xfrm>
            <a:off x="1317600" y="15840"/>
            <a:ext cx="78264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84360" y="1125360"/>
            <a:ext cx="77752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rreversibilità delle filett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una filettatura si generano forze elementari di accoppiamento tra le superfici delle filettature tra vite e madrevit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pendicolari alle superfici  e forze di attrito ad esse conseguent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arallele alle superfici delle filett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IL"/>
          <p:cNvPicPr/>
          <p:nvPr/>
        </p:nvPicPr>
        <p:blipFill>
          <a:blip r:embed="rId1"/>
          <a:stretch/>
        </p:blipFill>
        <p:spPr>
          <a:xfrm>
            <a:off x="179280" y="1266840"/>
            <a:ext cx="7812360" cy="55911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82080"/>
            <a:ext cx="91440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componenti d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F</a:t>
            </a:r>
            <a:r>
              <a:rPr b="0" i="1" lang="it-IT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F</a:t>
            </a:r>
            <a:r>
              <a:rPr b="0" i="1" lang="it-IT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ungo le direzion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radiale) 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tangenziale) sono                                             Per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F</a:t>
            </a:r>
            <a:r>
              <a:rPr b="0" i="1" lang="it-IT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5977080" y="4797360"/>
                <a:ext cx="31669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4608360" y="5516640"/>
                <a:ext cx="453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5111640" y="6162840"/>
                <a:ext cx="40323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-1620720" y="5046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FIL"/>
          <p:cNvPicPr/>
          <p:nvPr/>
        </p:nvPicPr>
        <p:blipFill>
          <a:blip r:embed="rId1"/>
          <a:stretch/>
        </p:blipFill>
        <p:spPr>
          <a:xfrm>
            <a:off x="0" y="1266840"/>
            <a:ext cx="7812000" cy="559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7164360" y="4543560"/>
                <a:ext cx="1979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5364000" y="5268960"/>
                <a:ext cx="37800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5364000" y="6102360"/>
                <a:ext cx="3780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7"/>
          <p:cNvSpPr/>
          <p:nvPr/>
        </p:nvSpPr>
        <p:spPr>
          <a:xfrm>
            <a:off x="3570840" y="-77040"/>
            <a:ext cx="130536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F</a:t>
            </a:r>
            <a:r>
              <a:rPr b="0" i="1" lang="it-IT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-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limite di scorrimento è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Ff =f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F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sommando i valori elementar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Fz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F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componente assiale e tangenziale si h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1042920" y="1413000"/>
                <a:ext cx="59054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1042920" y="2133720"/>
                <a:ext cx="58341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1042920" y="3716280"/>
                <a:ext cx="61930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116000" y="5373720"/>
                <a:ext cx="5688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7"/>
          <p:cNvSpPr/>
          <p:nvPr/>
        </p:nvSpPr>
        <p:spPr>
          <a:xfrm>
            <a:off x="0" y="263520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ppia elementare è data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186080"/>
            <a:ext cx="68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ndo lungo l’arco di contatt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term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1042920" y="6021360"/>
                <a:ext cx="605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0" y="549360"/>
                <a:ext cx="8532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0" y="1268280"/>
                <a:ext cx="104292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684360" y="2708280"/>
                <a:ext cx="7235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468360" y="5084640"/>
                <a:ext cx="403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5867280" y="5157720"/>
                <a:ext cx="2665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4859280" y="5877000"/>
                <a:ext cx="38163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ϕ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8"/>
          <p:cNvSpPr/>
          <p:nvPr/>
        </p:nvSpPr>
        <p:spPr>
          <a:xfrm>
            <a:off x="4822920" y="1515960"/>
            <a:ext cx="4321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guagliando i valori d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it-IT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400932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finché per quanto grande si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it-IT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n si possa avere lo svitamento, M</a:t>
            </a:r>
            <a:r>
              <a:rPr b="0" i="1" lang="it-IT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ovrà avere sempre segno contrario e sar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41440" y="5875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ver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0" y="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ott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0" y="1916280"/>
                <a:ext cx="4400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aso di una filettatura metrica per ipotesi una M10 passo grosso d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 30°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i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 0,8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 = 1,5 mm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m = 9,026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tg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= 0,05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da cui f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0,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4437000"/>
          <a:ext cx="9144000" cy="1371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1371600"/>
                <a:gridCol w="914400"/>
                <a:gridCol w="2286000"/>
              </a:tblGrid>
              <a:tr h="525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MATERI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it-IT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0" lang="it-IT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ndiz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a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a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a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a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rific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8"/>
          <p:cNvSpPr/>
          <p:nvPr/>
        </p:nvSpPr>
        <p:spPr>
          <a:xfrm>
            <a:off x="826920" y="61657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ori del coeff attrito dinamico e sta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"/>
          <p:cNvPicPr/>
          <p:nvPr/>
        </p:nvPicPr>
        <p:blipFill>
          <a:blip r:embed="rId1"/>
          <a:stretch/>
        </p:blipFill>
        <p:spPr>
          <a:xfrm>
            <a:off x="324000" y="-11160"/>
            <a:ext cx="85071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asellaDiTesto 1"/>
          <p:cNvSpPr/>
          <p:nvPr/>
        </p:nvSpPr>
        <p:spPr>
          <a:xfrm>
            <a:off x="179280" y="260280"/>
            <a:ext cx="871380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classi di resistenza delle v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bulloni utilizzati in carpenteria hanno viti tabellate per classi secondo UNI EN ISO 898-1:2001, specificate da due numeri con il primo indicante la resistenza ultima 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(espressa in MPa) diviso 100, e il secondo dato dal rapporto della resistenza a snervamento 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/resistenza ultima 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(espresse in MPa) moltiplicato per 10. Pertanto una vite di classe 4.6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= 100x4 = 400 Mpa          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= 6/10 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= 0,6 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= 240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distinguono le seguenti classi con le relative proprietà meccani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2568600"/>
          <a:ext cx="8229600" cy="3122640"/>
        </p:xfrm>
        <a:graphic>
          <a:graphicData uri="http://schemas.openxmlformats.org/drawingml/2006/table">
            <a:tbl>
              <a:tblPr/>
              <a:tblGrid>
                <a:gridCol w="1371600"/>
                <a:gridCol w="1339920"/>
                <a:gridCol w="1403280"/>
                <a:gridCol w="1371600"/>
                <a:gridCol w="1371600"/>
                <a:gridCol w="1371600"/>
              </a:tblGrid>
              <a:tr h="12456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za a taglio (f</a:t>
                      </a:r>
                      <a:r>
                        <a:rPr b="0" lang="it-IT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,V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za a trazione/compressione (f</a:t>
                      </a:r>
                      <a:r>
                        <a:rPr b="0" lang="it-IT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,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za a snervamento (f</a:t>
                      </a:r>
                      <a:r>
                        <a:rPr b="0" lang="it-IT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za ultima (f</a:t>
                      </a:r>
                      <a:r>
                        <a:rPr b="0" lang="it-IT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ngamento % (A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a0a0a0"/>
                    </a:solidFill>
                  </a:tcPr>
                </a:tc>
              </a:tr>
              <a:tr h="3128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28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28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28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28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28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4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 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2880">
                      <a:solidFill>
                        <a:srgbClr val="aaaaaa"/>
                      </a:solidFill>
                    </a:lnL>
                    <a:lnR w="2880">
                      <a:solidFill>
                        <a:srgbClr val="aaaaaa"/>
                      </a:solidFill>
                    </a:lnR>
                    <a:lnT w="2880">
                      <a:solidFill>
                        <a:srgbClr val="aaaaaa"/>
                      </a:solidFill>
                    </a:lnT>
                    <a:lnB w="2880">
                      <a:solidFill>
                        <a:srgbClr val="aaaaaa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14" name="CasellaDiTesto 4"/>
          <p:cNvSpPr/>
          <p:nvPr/>
        </p:nvSpPr>
        <p:spPr>
          <a:xfrm>
            <a:off x="6480" y="5805360"/>
            <a:ext cx="88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i valori caratteristici andranno divisi per un coefficiente di modello e uno di sicurezza del materiale per i calcoli di progetto. Le classi 8.8, 10.9 e 12.9 sono dette ad 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lta resisten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mentre le classi precedenti sono dette 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orm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asellaDiTesto 4"/>
          <p:cNvSpPr/>
          <p:nvPr/>
        </p:nvSpPr>
        <p:spPr>
          <a:xfrm>
            <a:off x="179280" y="333360"/>
            <a:ext cx="849636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i di resistenza dei dad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bulloni utilizzati in carpenteria hanno dadi tabellate per classi secondo UNI EN 20898-2, specificate da un numero indicante minima resistenza di prova espressa in Mpa) diviso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tanto un bullone di classe 10.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= 100x10 = 1000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a resistenza di prova è pari alla resistenza a trazione minima di un bullone che, accoppiato con il corrispondente dado, viene sollecitato fino al carico di rottura ammissibile del bul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ccoppiamento vite/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qualsiasi tipologia di giunzione bullonata le viti e i dadi devono essere associati come riportato nel seguente prospet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sellaDiTesto 7"/>
          <p:cNvSpPr/>
          <p:nvPr/>
        </p:nvSpPr>
        <p:spPr>
          <a:xfrm>
            <a:off x="179280" y="422100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oppiamento vite/d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qualsiasi tipologia di giunzione bullonata le viti e i dadi devono essere associati come riportato nel seguente prospet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rm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ad alta resis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6      5.6       6.8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8.8         10.9        1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0      5.0       6.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8.0         10.0        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3"/>
          <p:cNvPicPr/>
          <p:nvPr/>
        </p:nvPicPr>
        <p:blipFill>
          <a:blip r:embed="rId1"/>
          <a:stretch/>
        </p:blipFill>
        <p:spPr>
          <a:xfrm>
            <a:off x="2055960" y="0"/>
            <a:ext cx="7088040" cy="6826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0" y="981000"/>
            <a:ext cx="19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atteristiche dei elementi filettati; geometrie dei cod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356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71640" y="90792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minime da prevedere per la manovra delle chi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235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5B"/>
          <p:cNvPicPr/>
          <p:nvPr/>
        </p:nvPicPr>
        <p:blipFill>
          <a:blip r:embed="rId2"/>
          <a:stretch/>
        </p:blipFill>
        <p:spPr>
          <a:xfrm>
            <a:off x="5292720" y="2681280"/>
            <a:ext cx="2973240" cy="4176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50920" y="3429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aratteristiche delle teste delle viti e dei d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45036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7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8"/>
          <p:cNvPicPr/>
          <p:nvPr/>
        </p:nvPicPr>
        <p:blipFill>
          <a:blip r:embed="rId1"/>
          <a:stretch/>
        </p:blipFill>
        <p:spPr>
          <a:xfrm>
            <a:off x="250920" y="0"/>
            <a:ext cx="85071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0:20:43Z</dcterms:created>
  <dc:creator>Arc</dc:creator>
  <dc:description/>
  <dc:language>en-US</dc:language>
  <cp:lastModifiedBy>240</cp:lastModifiedBy>
  <dcterms:modified xsi:type="dcterms:W3CDTF">2013-05-13T15:56:41Z</dcterms:modified>
  <cp:revision>9</cp:revision>
  <dc:subject/>
  <dc:title>Diapositiva 1</dc:title>
</cp:coreProperties>
</file>